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56D5-860C-4EA5-AE8D-9A200687B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C41C-E54C-4C87-B33E-A7FE283C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C5BE-72A2-461E-A713-0B96478E3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6E46-95E8-4FDC-876E-7BCF5C49A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EF1C-0AAE-4E2F-9F7D-51AEF274A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119F-F152-4A5C-9C74-62CF35FC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4DCB-B5FB-4675-B8B4-9B6409B4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C7A6-547F-424A-B118-0FD53B9F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9C3D-B9A3-4861-AF8B-53CEDFD8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8859-782B-4FEF-8408-C244BAFC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8615-0786-4BCD-A14D-DDCFA30A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064E-227A-4B52-AEFC-C6622C09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506E-882D-4797-ADBE-5212DD85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29CE4-EFEF-4D18-B752-64A0F945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BCCB-C2B0-4281-8162-933FFFEF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B771-A4D8-405B-8149-0C4B97BC5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5169-CD6A-4B1C-B468-0C8B38532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BFEEF-E3E8-4201-8501-FFB2C5CFD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6D544-5C5D-442E-8666-2B7F47AF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FE217-8DEF-4891-9D3A-6E489BD4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F99F4-CDA0-49ED-BF49-34934707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1291B-97BF-4B1D-AFD4-0373CEEB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8E4B-9DA1-4657-AE6A-006DB87C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0B748-3034-4123-999B-38C9C930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4F1D7-9440-4BA8-98E6-E90B38FF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3D78A-5C24-483E-808D-E220DE49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2C3FB-B57D-4106-84AC-C5685D9E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64C54-B3E2-4EE2-BD6C-F8895D4B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42944-7D22-4308-8F93-9EBB08DB6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B78CA-6E41-47C6-91F5-A675A307D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1EDAA-CE7D-4A11-A575-90B6DE4A7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64A4D-01D0-4D41-AAF4-C20F750E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A2A82-81C8-415D-B8EB-4F6386BB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9FB8-370F-473D-BCB0-B414D926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87B06-2FB1-427B-9FED-2D1E3716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681FC-57BB-47EA-81DA-DB6478AE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23A83-5FED-4A0D-9F9A-C166F48E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891AE-5940-4D29-A725-8342B622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DD7DA-7DFD-4876-8C91-2AAE3458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63BFF-695C-4956-9851-F037154F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1E08D-7B35-4670-8F59-02CB5131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E416F-E138-49D1-8F1B-64BA90B8A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72CE8-54D7-4A67-AF5F-18211CF98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B8256-1EFE-4F42-9107-4D9B5084D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AECA-66A2-4DD3-8B8A-E7B724DB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98019-2690-408D-A3BF-DE908529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E81E3-102F-472F-889C-A9E472D4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5C16A-AE49-4117-A664-563FD273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DC0C1-9904-47D9-9F7A-0AC4D3A1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5D8E4-B1BA-4B3D-885F-A08390DA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326B1-CAFC-46A8-8644-43851DFD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18AD9-F1FF-49E9-8255-42F762C6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C31E5-00C5-4377-9E5E-8EF45059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C9AE8-7A68-4ECF-9542-1D1730CE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A178C-8F5B-49F6-B25C-DB9314CD2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DB75-9606-4580-AC6B-24CF1EE1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716DA-4DC5-4EAC-9922-D62F6C011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37F2C-B774-46D2-A530-0DACBC2D3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79713-69C9-4A37-B828-06271ADB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07470-A453-42D9-82ED-45C61DE3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CC3A8-B7A4-4BF8-8909-826CB087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1390E-C42F-4212-A98D-C60FCF01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2B1DC-B5F3-471D-A936-7E5D5A37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9E825-D2EA-4E09-A2C3-E782189A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A5493-E6C6-4E58-B711-EBC3BFF9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CD015-0604-44CC-9716-F37E9F98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A2F2-E6CA-4D6C-9F67-1A2240FF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63AA4-030C-4772-81BA-AB3730C7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CFA97-086F-44C7-8292-9BEC2DF36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8DE02-80A0-4269-ABC2-6D0A6190D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F9F9-EB8A-4E09-A883-CFE04842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B715-9971-47F8-BECC-291D70AE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A96D-FFE1-4CF8-8D42-3FF1011B420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D5A6-A324-4DFB-AA0D-1357369BD6F4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D28B-C1A4-424D-8D4E-CEAFBE258C1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5694-5AE4-4700-90A3-7DAA237214A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9443-DA48-4692-B1D0-2CF254274D1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8E42-3E8C-493B-BEF9-FB343FA9ACB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682560" y="2163600"/>
            <a:ext cx="8186760" cy="14814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7720" y="3809520"/>
            <a:ext cx="6480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iagnosi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18288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hysical Exam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s and symptoms vary with the drug(s) used by the m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rity of withdrawal may not correlate with dose or duration of drug expo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igns and Symptom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75248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irri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deep tendon and primitive refle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muscle t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mors and myoclonic je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-pitched c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keful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iz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igns and Symptom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09120" y="1676520"/>
            <a:ext cx="815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7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etabolic/Motor/Respirato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t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e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ri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neezing/conges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a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aw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cc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rooting refle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coordinated suck and swal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ilure to gain we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chypnea/nasal fl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igns and Symptom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6840" y="167652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rgi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se stools/diarrh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iagnosi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560" y="137160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tients are usually observed for at least 3-5 days for S/S of withdrawal before they are discharged h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bstinence scoring is a way to assess withdrawal sig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re are several abstinence scoring systems, but none have been adopted as the standar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Finnegan scoring system is the most comprehensive and widely us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core of 7 or less is considered mild withdrawal and infants do well with non-pharmacologic comfort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eated scores of 8 or more generally indicate the need for pharmacologic 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Object 2"/>
          <p:cNvGraphicFramePr/>
          <p:nvPr/>
        </p:nvGraphicFramePr>
        <p:xfrm>
          <a:off x="2133720" y="-20520"/>
          <a:ext cx="4860720" cy="687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-20520"/>
                    <a:ext cx="4860720" cy="68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Title 3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960960" cy="244476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tudies On NA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mitation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ine tox screens do not reflect drug exposure throughout pregna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women who use drugs are multiple drug users, and also drink alcohol and smoke cigaret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fore, it is difficult to isolate the effect of one dr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Opiat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85200" indent="-35172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st frequent cause of N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5200" indent="-35172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set of symptoms: Minutes after delivery to 2-3 days of lif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5200" indent="-35172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nical course: Variable, can show any of the s/s mentioned before, s/s can persist up to 3-6 month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5200" indent="-35172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gnosis: Good, minimal teratogenicity, good catch up growth by 1-2 years, most have normal cognitive and motor development at 5-6 years with long term follow-u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arbiturat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/S similar to opiates except onset usually later (4-7 days after birth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uration of s/s usually 2-6 weeks, but can last as long as 4 month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efinition of Neonatal Abstinence Syndrome (NAS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233208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condition that an infant experiences when withdrawing from certain drugs that his/her mother took during pregnanc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enzodiazepin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t much is known about benzodiazepi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/S similar to opiate withdraw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set: usually not until 1st few days after birt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there has been a reported case where s/s started 21 days after birth with chlordiazepoxide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Alcohol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4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remost drug used toda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set: 3-12 hours after delive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/S: More CNS effects, less severe and of shorter duration than withdrawal from opiat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re concerning is the risk for Fetal Alcohol Syndrom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5-40% risk in infants born to alcoholic w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ted to alcohol d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jor cause of mental retardation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Fetal Alcohol Syndrome (FAS)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22160" indent="-2728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riteria for FA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70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natal or postnatal growth retar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70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NS involvement: developmental delays, behavioral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70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smorphic Facial Features: microcephaly, microphthalmia, short palpebral fissures, poorly developed philtrum, thin upper lip, hypoplastic maxi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umerous congenital anomalies are associated with F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ny don’t meet the criteria, but present with fetal alcohol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effec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Fetal Alcohol Syndrom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9" name="Content Placeholder 3" descr="FAS.jpg"/>
          <p:cNvPicPr/>
          <p:nvPr/>
        </p:nvPicPr>
        <p:blipFill>
          <a:blip r:embed="rId1"/>
          <a:stretch/>
        </p:blipFill>
        <p:spPr>
          <a:xfrm>
            <a:off x="4648320" y="1905120"/>
            <a:ext cx="4216320" cy="34812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" descr="FAS2.jpg"/>
          <p:cNvPicPr/>
          <p:nvPr/>
        </p:nvPicPr>
        <p:blipFill>
          <a:blip r:embed="rId2"/>
          <a:stretch/>
        </p:blipFill>
        <p:spPr>
          <a:xfrm>
            <a:off x="152280" y="1905120"/>
            <a:ext cx="4286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timula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common cause of 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see s/s that represent the direct effects of the stimulants themsel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set/Duration: Within first 72 h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/S: Tremors, high pitched cry, irritability, excessive suck, hypertonia, tachycar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caine and Methamphetamine exposed fetuses have a high rate of spontaneous abortions, stillbirths, IUGR, prematurity, and asphyxia related to placental abru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timula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56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37872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cai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s vasoconstriction and decrease in placental blood flow with consequent fetal hypox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s as a teratogen because of the vascular effects: CNS &amp; CV anomalies, limb defects, intestinal atre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nosi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lnSpc>
                <a:spcPct val="80000"/>
              </a:lnSpc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ually there is good catch up growth by 1 yea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lnSpc>
                <a:spcPct val="80000"/>
              </a:lnSpc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re may be speech and behavioral problems as children get old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lnSpc>
                <a:spcPct val="80000"/>
              </a:lnSpc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ies have shown no difference with respect to intellectual ability in children who were drug-exposed vs. placeb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timula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ethamphetami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drawal symptoms are less sev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nosis: Unclear, may be associated with neurocognitive defic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arijuan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udies have suggested an increased risk of prematurity and lower birth weigh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gnosis: Higher incidence of ADHD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SRI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10400" indent="-37476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use NAS in up to 1/3 of neonates exposed in uter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set/Duration: Severely effected present in 1st 48 hours of life and resolve within 48 hou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/S: Tremors, hypertonia, irritability, GI disturbance, respiratory distres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7400" indent="-26712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/S usually self-limited &amp; does not require pharmacologic inter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7400" indent="-2671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roxetine with greatest propensity to cause N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reat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e Nursery Protoco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nifestations of drug withdrawal in some infants will resolve within a few days and drug therapy is not requir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infant’s withdrawal score should be assessed to monitor the progression of symptoms and adequacy of treat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Incidence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98108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5-10% of deliveries nationwide are to women who have abused drugs during pregnancy (excluding alcoho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reat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reatment should always begin with non-pharmacological measur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ive car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nimize stimulation - keep baby in a darkened and quiet environment if possi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waddling and positioning - use gentle swaddling and positioning that encourages flexion rather than exten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event excessive crying with a pacifier, cuddling, etc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eeding should be on demand if possi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reat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cision for pharmacologic treatment is based on the infant’s abstinence scores and mechanism of action of the drug that the infant was exposed 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goal of therapy is to allow the infant to withdraw without excessive excitation that leads to withdrawal symptoms causing discomf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reat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edication Choices and Doses -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phine Sulfate: high dose = 80-100 mcg/kg q4 hrs; low dose = 30-40 mcg/kg q4 h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adone: 0.05 – 0.2 mg/kg q12-24 h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prenorphine: 13.2 mcg/kg/day in 3 divided do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enobarbital: Loading = 16mg/kg per 24 hrs; Maintenance = 2 – 8 mg/kg/day in 2 divided do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zepam: 1 – 2 mg q8 – 12 h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reat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ce a pharmacologic dose has been advanced to its peak to keep patient comfortable, the dose is gradually weaned so the infant can tolerate mild symptoms of withdraw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length of time it takes to wean an infant off medication varies from infant to infa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reat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6840" y="16002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pioid withdrawal using oral morphine sulfate has been shown to be most effect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ose can be increased by 20% q8 hrs until s/s of withdrawal are controll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x dose: 0.2mg/kg/d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eaning process varies between provid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the peak dose is maintained x 72hrs, then wean by 20% every other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reat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dditional use of Phenobarbital and/or Diazepam is much debated because of added depressant effects on an infant who is already on a narcotic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henobarbital mostly used for CNS withdrawal symptom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preferred for non-opiate related N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reastfeed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684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cohol – Not recommended if use is excess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cause drowsiness, diaphoresis, deep sleep, weakness, decreased linear growth, abnormal weight gain, and decreased maternal milk p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icotine – Controversi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sses into breast mil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decrease milk production and cause the baby to have poor weight 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reastfeed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mphetamine - Not recommend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cause irritability and poor sleeping hab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caine - Not recommend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cause irritability, vomiting, diarrhea, tremors, seiz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rijuana - No clear recommend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ed stu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reastfeed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68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ethadone – Compatible with breastfeed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opiates are compatible with breastfeeding except for hero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al amounts cross into breast milk and there is poor oral bioavail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roin - Not recommend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cause tremors, restlessness, poor feeding, vom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reastfeed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68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SRIs - Generally safe for breastfeeding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traline and Paroxetine have minimal transfer into human mil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oxetine produces significant plasma concentrations in some breastfeeding infants, which can cau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lic, irritability, feeding and sleep disorders, slow weight ga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ants should be monitored for irritability and poor feeding, or breast milk can be pumped and dum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athophysiology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28240" y="144756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rugs of abuse are often of low molecular weight, water-soluble, and lipophili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y are easily transferred across the placenta to the fetus, and across the blood-brain barrier of the fet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/2 life of drugs usually prolonged in the fet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rugs either bind to CNS receptors, or affect the release and reuptake of various neurotransmitt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y have long lasting effects on developing dendritic structures and are toxic to fetal cel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Long Term Manage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uring the first few years, children exposed to drugs in utero can have neurologic problem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s places a difficult child in a difficult environ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ose follow-up and social services involvement may be requir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Risk Factors Associated with an Increased Incidence of Drug Ab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or socioeconomic circumstan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or educ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eenage moth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or prenatal c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Other Conditions Associated with Drug Ab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20574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ultiple drug abu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or nutritional stat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em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fectious Disease (Hep B, syphilis, HIV, and other STD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Obstetric Complications Associated with Drug Ab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20574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UG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tal Dist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mature Deli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rioamnion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to cocaine: HTN, cardiac arrhythmias, CVA, abruption, respiratory arrest, fetal dem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iagnosis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80520" y="13716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istory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drug users withhold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ails of the quantity and duration of abuse are unrel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abs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ine tox only reflects intake from the last few days prior to delive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se positive immunoassays can occur (i.e. morphine positive if took in poppy seeds or codeine from cold/cough medicine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specific chromatography or mass spectrometry may determine the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iagnosi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599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ab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conium analysis reflects drug usage over a longer period and is more sensitive than uri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advantage = specimen requires processing prior to te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air analysis is the most sensitive test avail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litative relationship exists between amount of drug use and amount incorporated in the h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born hair can be obtained to reflect exposure during last trimester, and can be obtained later should symptoms occur where in-utero drug exposure was previously unsusp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18:00:31Z</dcterms:created>
  <dc:creator>Ada Ho</dc:creator>
  <dc:description/>
  <dc:language>en-US</dc:language>
  <cp:lastModifiedBy>Health Services Department</cp:lastModifiedBy>
  <dcterms:modified xsi:type="dcterms:W3CDTF">2010-05-24T23:59:25Z</dcterms:modified>
  <cp:revision>24</cp:revision>
  <dc:subject/>
  <dc:title>Neonatal Withdrawl Syndrome</dc:title>
</cp:coreProperties>
</file>