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D8CC-D188-4C28-B7DC-801E8CEEB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5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able 2. Differential Diagnosis of Neonatal Seizures by Day of 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A63-5DBF-4547-898C-B19F225C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60D-F0D1-4B9D-A41B-A9314EAF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66C-5FAA-488C-8E39-7A11FF85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46C-9108-4062-A9DD-EEB1F230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B17-2BCE-4FD9-8D30-C926E1BF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422-FF4C-489D-BF65-C0E3320A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34A-BE45-44AE-A429-E8D59E5B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71E-3A7B-48F4-9257-3FF8A7F5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5AA-554D-42B5-80F6-36E08802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40D-252B-413D-B0B4-A34A274D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57C-FD73-4B91-9457-21E5F209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8EB-C411-4836-847C-CF712A24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9FE9-891B-4EEC-B399-5D9EED9C6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onatal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scilla Joe, M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ldren’s Hospital &amp; Research Center at Oak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btle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mon in premature i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observed type of seiz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manifestations:  Bicycling movements, lip smacking, apnea, and eye movements or staring, un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have no electrographic correlate, are likely primarily subcor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 or multifocal, rhythmic movements with slow return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associated with generalized or focal brain abnorm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monly associated with electrographic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ed flexion or extension of one extremity or the whol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ve neocortical damage with uninhibited subcortically generated mov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or may not have electrographic corre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yocl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, isolated jerks which lacks the slow return phase of clonic mov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not associated with electrographic corre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lonic movements may be normal in preterm or term i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epileptic mo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sleep myoclo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ulousness or jitter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evoked myoclonus from metabolic encephalopathies, CNS mal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nign Sleep Myoclo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set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chronous jerks of upper and lower extremities during sle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EEG corre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oked by benzodiazep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ases upon aro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lves by 2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itteriness vs.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cular phenom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sen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ments cease with passive flex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ypoxic Ischemic Encephalopath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izures begin within 24-72 hours after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s for 50-60% of all neonatal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asphyxia occurs before or during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erial cord pH &lt; 7.0, base deficit &lt; 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0% develop seizures within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12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stress:  hypotonia and unrespons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standing dysfunction:  hypertonia with cortical thumbing, joint contractures or conversely hypotonia with encephal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ningitis/ Encephalit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for 5-10% of all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RCH, enterovirus, parvovi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present by day 3 of life, except for HSV which may present in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S, listeria, E coli, strep pneumoni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s at end of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to 3 months of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acranial Hemorrh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for 10% of al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de IV IVH/PV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arachnoid/subdural 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al infarction (ischemia, dehydration, infection, polycyth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hophys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synchronous depolarization from large group of neur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ive excitatory amino acid release (glutama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inhibitory systems (GAB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larization results from Na influx into cells; repolarization from outflux of K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ruption of Na/K ATP pu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rebral Infar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involves middle cerebral art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, clonic seizures com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risk for spastic hemipar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ous sinus thrombosis may cause hemorrhage st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iologies: CNS malform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sencephaly, pachygyria, linear sebaceous nevus syndrome, polymicrogy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with seizures at a later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12819_web" descr=""/>
          <p:cNvPicPr/>
          <p:nvPr/>
        </p:nvPicPr>
        <p:blipFill>
          <a:blip r:embed="rId1"/>
          <a:stretch/>
        </p:blipFill>
        <p:spPr>
          <a:xfrm>
            <a:off x="1905120" y="3657600"/>
            <a:ext cx="41148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iologies: Metabol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, hypocalcemia, hypomagnesemia, hyper/hyponatr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errors of metabolism (&gt;72hrs of age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inoacidopathies, urea cycle disorders, biotinidase deficiency, mitochondrial disorders, beta oxidation disorders, glucose transporter deficiency, peroxisomal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leptic syndromes-ben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familial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somal domin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-ictal exam is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outcome is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tonic-clonic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idiopathic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, normal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inter-ictal state, E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nic, occur day 5, may be Zn de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leptic syndromes-malign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atal Myoclonic encephalo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gmentary partial seizures, massive myoclo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orders, abnormal E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tahara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d -3 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erous brief Tonic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sgenesis is cause, prognosis very p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bolic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:  glucose, lytes, BUN, creatinine, lactate, pyruvate, ammonia, biotinidase, quantitative amino acids, very long chain fatty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e:  quantitative amino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F:  cell count, glucose, protein, pyruvate, lactate, quantitative amino acids, HSV PC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p recordings measure discharges that  spread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s from frontal or temporal regions may not spread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mon in the newbo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nical Seizures Without EEG Correlat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represent uninhibited brainstem refle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s from deep cerebral structures and brainstem may not reach the cortical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difficult to suppress than in older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 is worthwhile because seizu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cause hemodynamic or respiratory comprom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rupt cerebral autoreg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result in cerebral energy failure and further inj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ilize vital signs and  treat underlying hypo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 transient metabolic disturb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barbital is first line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razep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yto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Mechanisms of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energy production (hypoxemia, hypoglyc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ation in neuronal membrane (hypocalcemia, hypomagnes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excess of excitatory versus inhibitory neurotransmitters (GAB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et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xia-isch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ing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Hypocal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arachnoid 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Hypocal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2590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 normal 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5105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most all are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et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al dysgenesis has grave prognosis, almost none are nor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ity and seizures associated with high risk of death or very poor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ty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t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s on cause,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other seizure typ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ter progn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ized T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l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y E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inter-ictal EEG background associated with adverse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EEG background at presentation associated with good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tal features less rel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ter outcome when clinical and EEG seizures corre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number and frequency may relate to worse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atal seizures are often sub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examination and characterization important for prognosis and 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 usually successful in stopping seizures, but risk of neuro-developmental abnormalities remains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 of causes remains a p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iochemical Changes with Seizur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crea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yruvate converted to lac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in gluc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production of pyruvate from A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id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in neonates than any other age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 in the first 10 days of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 Prolonged Seizures Harm the Developing Brai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l stud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istent neonatal seizures in rats induce neuronal death and changes in hippocamp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seizures in adults associated with memory impairment and poor psychosocial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manent reduction in seizure threshold associated with significant deficits in learning and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uses of Neonatal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E (32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acranial hemorrhage (1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NS infection (14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rction (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orders (6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errors (3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n (1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 withdrawal (1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erse Effects of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 division and mi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tion and expression of recep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aptogenesis and apo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erm effects:  seizure threshold, learning, and 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62992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24160" y="5975280"/>
            <a:ext cx="661176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Ferriero D. N Engl J Med 2004;351:1985-19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23:20:24Z</dcterms:created>
  <dc:creator>PJoe</dc:creator>
  <dc:description/>
  <dc:language>en-US</dc:language>
  <cp:lastModifiedBy>hcmartinez</cp:lastModifiedBy>
  <dcterms:modified xsi:type="dcterms:W3CDTF">2010-04-17T06:11:07Z</dcterms:modified>
  <cp:revision>39</cp:revision>
  <dc:subject/>
  <dc:title>Neonatal Seizures</dc:title>
</cp:coreProperties>
</file>