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EB8-8D24-4903-B74D-9F8B7740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112-7ECD-4A82-879D-C2FBF4FF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16B-B7E2-462B-AE84-6882BFA8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C94-1337-4862-AA1E-852265B1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44FA-B9FD-4955-B473-699CD7FD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1A42-398C-41B3-A603-737738FC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81C2-6F02-45F7-B893-748B3018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BD62-BEF2-4674-BB6E-2FE6003A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1BBA-E035-4091-9140-E9EFDBE5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8C34-2151-464F-B5C3-C1474B17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A57C-7CB1-4C14-8458-397774CD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049-658B-43AB-9DB1-CF35712B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D7F2-51AB-4865-BB3A-C647D0C4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A126-0C53-4325-AB45-D1548AC6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F950-12F9-4F08-AE82-34D871DE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2CC4-F1D8-4C2C-BB5C-22BB315B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5023-9698-4C06-AD4B-C2ECD532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BBD-C24E-4A6F-8BB4-0A4C03F5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695-587C-4050-9530-BD0696D1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BD7-A05F-48E8-8818-8222E797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E7B-324E-4D24-8845-23857C1A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259-EE9B-42CC-BC4D-4AB02274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36B-B23D-497D-9508-B3AB8374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EAF-9BE1-4E69-B4BE-D9B57D7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061A-17FC-4CD8-811F-E0143F2A60F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AFD4-EB0A-4B2A-B2BA-D4757A3AAA0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Picture 3" descr="http://www.cssd.us/images/medicalinfo/moles2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healthprofessions.missouri.edu/cpd/RT/CRCE/images/NRP/6.jpg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mon and  Usually Benign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aafp.org/afp/2008/0101/afp20080101p47-f4.jpg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Rectangle 9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Rectangle 6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4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Picture 5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Picture 4" descr="http://s3.hubimg.com/u/1576434_f260.jpg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Picture 4" descr="http://www.adhb.govt.nz/newborn/TeachingResources/Dermatology/Miliaria/MiliariaCrystallina.jpg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skinsight.com/images/dx/webInfant/miliariaRubra_31837_lg.jpg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Picture 4" descr="http://www.skinsight.com/images/dx/webInfant/supernumeraryDigit_35129_lg.jpg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are and 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Picture 4" descr="http://www.jle.com/en/revues/medecine/ejd/e-docs/00/04/12/B9/texte_alt_jleejd00140_gr1.jpg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Picture 4" descr="http://img.medscape.com/pi/emed/ckb/pediatrics_general/1331341-1331364-909549-909619.jpg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Picture 4" descr="http://download.imaging.consult.com/ic/images/S1933033208902378/gr25a-midi.jpg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www.conganat.org/seap/reuniones/almagro2000/casas/images/ni/ni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icture 4" descr="http://menshealth.about.com/library/graphics/PHIL_2246_lores.jpg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Picture 4" descr="http://pathmicro.med.sc.edu/mhunt/rubel2.jpg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Picture 4" descr="http://www.pediatricsupersite.com/images/content/idc/200809/wyd1.jpg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Picture 4" descr="http://www.pathguy.com/sol/14137.jpg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Picture 4" descr="http://genfir2.org/ibis-birthdefectsorg/start/images/aplascut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Picture 4" descr="http://www.sahha.gov.mt/showdoc.aspx?id=487&amp;filesource=4&amp;file=fig07.jpg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ealth Services Department</cp:lastModifiedBy>
  <dcterms:modified xsi:type="dcterms:W3CDTF">2010-05-25T00:00:28Z</dcterms:modified>
  <cp:revision>26</cp:revision>
  <dc:subject/>
  <dc:title>Normal Dermatologic Findings</dc:title>
</cp:coreProperties>
</file>