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96BA-DB7A-4D4F-BB00-7965F1ADE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pagus:connected at the upper portion of the torso, share a heart, which makes it nearly impossible to separate them and save them both. Thoracopagus twins make up about 40 percent of all conjoined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arl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89E-7A76-4345-8042-B3240C6F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D69-525C-482F-9361-AAB28305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9F6-96B9-4C3C-B3E2-B055DC1D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07D-023D-4132-96FE-5D078BA7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7FB7-7973-44E3-A5AA-046F6A42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A0E4-A202-48CC-8D5A-CE7ACBB2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5BF0-CBAC-4E69-B683-D3EDD62F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764A-DD74-42E8-9C9C-4C9F9E3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5C95-F12D-413E-8E93-23E83319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7AE-47D7-45E5-A0A2-033CABB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02C4-EA7E-4785-AF16-25CE137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73A-FDD8-437C-A749-40334228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A4BC-ADB1-4334-84A5-76CD653E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9884-E04C-4B27-AE54-E8DCA262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E5CB-BB68-4592-8F33-57A967DF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B407-554E-456E-B68D-C11AE4A0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1DE3-AD6F-47AB-8B52-A0BD00F3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E63-54A3-47D8-AD39-DD46D8F9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426-B2ED-4E95-A827-2204D31F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EF1-AC7D-4F42-9493-DCC5CE21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43D-1D1A-4714-8BC6-DC5A723B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DBE-D817-4861-95C7-67373575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CD3-B152-47A8-88DD-4B372E21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6D0-062D-4B1F-98E3-B24E1676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4AC3-6235-4DEC-805F-A22608ACF635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CE80-4A65-4DE6-959A-5A881133EC9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urry.k12.nc.us/nshs/mtrail/Famous%20People.htm" TargetMode="External"/><Relationship Id="rId4" Type="http://schemas.openxmlformats.org/officeDocument/2006/relationships/hyperlink" Target="http://www.surry.k12.nc.us/nshs/mtrail/index.htm" TargetMode="External"/><Relationship Id="rId5" Type="http://schemas.openxmlformats.org/officeDocument/2006/relationships/hyperlink" Target="http://en.wikipedia.org/wiki/Image:Abby_and_Britty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GES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-2065" t="20092" r="2661" b="64959"/>
          <a:stretch/>
        </p:blipFill>
        <p:spPr>
          <a:xfrm>
            <a:off x="114480" y="2895480"/>
            <a:ext cx="8915400" cy="141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78280" y="14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 : Monochorionic, Mono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1640" y="457200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sks:  cord problems, high mortality r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wins" descr=""/>
          <p:cNvPicPr/>
          <p:nvPr/>
        </p:nvPicPr>
        <p:blipFill>
          <a:blip r:embed="rId1"/>
          <a:stretch/>
        </p:blipFill>
        <p:spPr>
          <a:xfrm>
            <a:off x="-4667400" y="-57240"/>
            <a:ext cx="271476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EngHome" descr=""/>
          <p:cNvPicPr/>
          <p:nvPr/>
        </p:nvPicPr>
        <p:blipFill>
          <a:blip r:embed="rId2"/>
          <a:stretch/>
        </p:blipFill>
        <p:spPr>
          <a:xfrm>
            <a:off x="-4667400" y="6091200"/>
            <a:ext cx="254340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4668120" y="-2274840"/>
            <a:ext cx="23256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442040" y="8073360"/>
            <a:ext cx="2689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Eng Bunker’s home in Surry County, NC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3"/>
              </a:rPr>
              <a:t>Return to Famous Peopl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4"/>
              </a:rPr>
              <a:t>Hom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Modern, healthy, living 15-year-old conjoined twins Abigail and Brittany Hensel. (200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2362320" cy="3110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joined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/200,000 bir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lf born stillbo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likely female ~7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acopagus most comm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l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in only 5-15% of monochorionic, diamniotic twins despite ~85% with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occur in dichorion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estingly, does not occur in monochorionic, monoamniot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04800" y="2209680"/>
            <a:ext cx="6134400" cy="273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cular Anastomo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x: discordant growth by ultras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niotic sacs and umbilical c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placen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nical Sxs: rapid uterine growth, changes in fetal movement, preterm labor, postnatal hemoglobin difference of &gt;5 g/dl between the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twi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cyth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F, hydrop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bilirubi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igh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or twin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Oligo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glyc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uck twin” fetus appears stuck due to amnion adhering to fet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creased urine outpu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ower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etrical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 removal of amniotic fluid for polyhydramnios if &gt; 20 weeks ges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n opening in amnion between the two fetuses to allow fluid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er ablation of placental vascular anastomoses (high complication ra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ective reduction of donor twin if high risk of death for both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natal death rate is 9-11 times the rate for singlet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amniotic twins have the highest mortality rate mostly because of cord entangl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twins have a mortality and morbidity rate that is 2-3 times that of dizygotic twi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ontaneous twins ~1 in 8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plets ~1 in 800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ozygotic twins- 3 to 5 per 1000 pregnancies with uniform frequency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zygotic twins- variable incidence (4-50 per 1000 pregnancies) by locale, race, maternal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n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pereme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I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stational diabe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tpartum hemorr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 prev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t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genital anoma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 of discordant tw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demise (death of one fetus puts other at risk for D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mature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win: malpresentation, in utero hypoxi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aline membran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ebral pals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que Risk of CP in Multiple Ge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fetal de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Zygosity and chorionicity (monochorion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ryonic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 and circumstances of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inflam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zygotic (2/3): dichorionic (2 placenta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mplant sites are near, placentas may fuse yet there are no vascular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(1/3): dichorionic, monochorionic, diamniotic, monoamnio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sed or separate place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risk for 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829040" cy="509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9680" y="60948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0960" y="1905120"/>
            <a:ext cx="24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8600" y="297180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or fus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240" y="4114800"/>
            <a:ext cx="251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sed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640" y="15238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280" y="4800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088" t="35048" r="1088" b="41031"/>
          <a:stretch/>
        </p:blipFill>
        <p:spPr>
          <a:xfrm>
            <a:off x="838080" y="2465280"/>
            <a:ext cx="7467840" cy="192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5600" y="14479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Di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1088" b="79915"/>
          <a:stretch/>
        </p:blipFill>
        <p:spPr>
          <a:xfrm>
            <a:off x="266760" y="2362320"/>
            <a:ext cx="8610480" cy="184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55840" y="129528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Mono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0240" y="4303800"/>
            <a:ext cx="495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est risk of twin-twin transfu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7:27:41Z</dcterms:created>
  <dc:creator>Priscilla Joe</dc:creator>
  <dc:description/>
  <dc:language>en-US</dc:language>
  <cp:lastModifiedBy>Health Services Department</cp:lastModifiedBy>
  <dcterms:modified xsi:type="dcterms:W3CDTF">2010-06-12T08:33:44Z</dcterms:modified>
  <cp:revision>27</cp:revision>
  <dc:subject/>
  <dc:title>MULTIPLE GESTATION</dc:title>
</cp:coreProperties>
</file>