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D18-B706-4598-8958-2F50FE12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BFD-E15A-4D64-A091-1B27377C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E7598-5B72-45CA-ABE4-43252BA3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024DC-14CC-4C78-8E9F-67EE651C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A1EA3-8C71-4093-8834-2BE740F3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5455D-2DDC-49AA-A5DD-8D57DB13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BDE9B4-6E63-4794-B155-38D03655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56643-72B7-4D40-8719-F93F67FE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30950-7A6E-44C6-9347-3A78A782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5D6C47-D639-4869-97A0-8F5426D8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7290E-86D0-474C-AA95-13FFCB29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ECD74-E602-4C9B-AD1F-EC5C2754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049A-AC80-4B57-92A9-9712BDBD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52BCC-D2A4-48F1-B3B8-23FA43D3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30C9F-39E4-4286-8B4D-71BBC609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B9074E-64DA-4606-8CBF-0F737677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60B48-5750-4E26-8053-01427CBC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8F2AAC-C264-4085-AC1B-2E20AA62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F8AF13-AAA3-4F4D-A171-0E471488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CA010F-4B7B-4309-A18E-9E210FE6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987C73-E793-4232-A17B-360733D1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418A5F-6151-406C-B8CA-6E18BA4C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9E08E-128D-447A-974B-CA57EDF9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85C-9536-46E5-9117-5D3B9654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FA0F9-3F96-4DEC-92E9-11701B25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F9283-3240-4DD7-A9DC-5169523F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CD802-0073-472E-8D56-BB81C0CB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84626-9A34-41E0-BAC1-6CF2E13D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04F70-4C84-40EA-BF3A-0AB9EA12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032A4-761F-408D-A236-93C529BB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54CEF-E799-4500-8349-2F310EA4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5D4B7-C69D-4D68-98F5-46F22C80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51DE5-A5A2-43A5-BFBE-D9310D33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BB2CE-5439-42F4-8627-A3FE876C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7A89-40CB-4492-B515-A770C374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1A75C-BABB-46E1-BA04-D7720A9E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89BE3-D1F8-4CB7-8AFB-6B63E3BE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4084C-1B07-420E-9E6E-A2B67670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3AEBE-0BB7-4D73-8F9F-761499C7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D3D21B-E945-478B-B32A-432C1618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074D4-5A14-402D-9F11-01D3C6FA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7DB19-7852-4159-A312-15AAC13E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B47FF2-B8D2-4D6E-852D-3D54A732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B7080-BC3B-49A6-82E7-8329D8E0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E2F28D-4AB3-4145-A661-C838F4BB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8F90-6D5A-45D6-A5CE-F67CD3A0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BA06F8-C44C-4F6C-A7CB-F4AC3BFD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5A65F1-3331-44B6-9C25-8C180492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BABAD-268F-4480-B9FC-D2F33F07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0D273-40BD-403A-89BE-5E1CD635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A0BE3F-CEF7-4049-89DC-49FE180F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B8CD-0F81-47F5-A08E-15D943D2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32C3-E2BF-4E90-8E73-9008BE7C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440B-7C96-4C30-AB53-856C69FF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6949-BF55-468C-8EA5-5276AB67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81AF-2994-4FE6-8A29-86216917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046-EB62-489D-88E7-2A7730E4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1905-FCF9-4F60-AC95-E6B7DE8C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1287-2D24-4C68-8C9B-623B7B6C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38FA-8A53-41C7-A170-A6BE3986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D314-22A8-4371-AA01-5AA8E8C5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7AB1-29F1-482C-97F1-960AA418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2E096-C68E-43BD-A067-F0FEF68A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F5FFF-821C-40F2-94D1-B81F41C2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C5541-6A50-4E80-8EC6-53C3CB5A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13B96-7D9E-494C-A154-BAAB2DB5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3D957-CAD6-48C1-9CA1-BB78FB24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C1A4-A244-4C3B-81F4-10EF425F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47693-30D8-4FDB-9CC2-EA32C964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E9E17-F3ED-4EF7-AE14-7E53A8D1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3C912-1DD7-425F-B707-E1FB9C6F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9A123-5948-4C06-B57D-2754FA89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3DA5A-3D6B-4445-951A-4A6517B1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ABC74-AA50-462E-8878-294154CA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E554F-DB3A-4EB0-A0FE-1E899B3A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AD5A9-FD7B-4449-8CE2-4562CFD7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E51BC-05B0-4D1F-9DFC-7368A15F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2CBB7-5077-4B12-BDC2-B2106FC8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A91-52F8-4905-84F3-F4D636EA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823B9-8ED4-4A8A-9CE1-7ED51554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1D928-542E-4A17-A0F1-7ABB8CCC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7023F-33A0-42C7-A34D-5241256D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D3F91-CE99-4F96-BCC0-647FA95C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4DAE5-575A-416B-B789-206E0D1B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B5FB5-9015-4D34-BAFA-6599C42B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5DF7F-9116-43C0-8291-E4F22231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2BB7A-6F05-49A0-84C3-5E8EED1F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DBA33-BE34-4AB8-8891-E1BC833F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E2006-FC41-403E-92A4-EA63FBBA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888-B757-43D0-9892-61DEC56C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C7B77-B80A-4597-A462-048ECB8F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21624-7B6A-4047-8B86-81BDEA6B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27872-A312-4E3C-B0B8-1F54C911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065A1-3B64-4DB2-81F7-F0E9A9C4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FCDCE-1715-4571-9743-C24DF6DE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4CD58-65CD-4B6C-925A-497DE1EA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6F1E5-2E79-4909-B40F-4B32B647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1174C-3C17-477F-AFF9-1A5081EA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0031D-B219-4D2B-B574-5A40DB0C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62FD6-C505-4165-B2FB-76A5CC30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F8EA-7BDA-4D63-9CE4-175D80D6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052F8-9498-4EC9-9828-C24DB4B3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3CE19-B463-49BA-98D9-39E72829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223A5-6701-406A-BED7-624092E2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A1329-D7C3-4DD9-9E10-27360DFC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A96D4-08B0-4B77-B29D-F5FA57FA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12196-C9BC-43FC-99D1-A836D79B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436CB-FF02-4120-AFBE-2FA605B9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9D5A9-B117-4FD1-9BBC-2AC27225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7026A-B799-4E57-9FED-5B3B5876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B8CAF-B38C-4D7C-A87B-2106622F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482-22A1-4579-88E4-08B85349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6F320-B8CC-4E46-98F8-73CDA2F4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3B2AF-C750-4958-BD9A-6C8705E5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5CB22-45C2-4353-91CA-C2A7F4F4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1EA00-876A-4345-B02A-CD98C6A7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60EE6-ADAC-4C06-87B9-ACBA2B2D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B3D8C-88C9-47A1-B0E3-955D414A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2CE71-B9C2-4A4E-98EF-02971ECE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03050-C539-4AD9-A788-6E7DA0E6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38A3C-24DB-4A53-BC05-9D888606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D5C9E-89A0-4F17-B401-A6D81650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C52-EFC6-471B-8624-9698D711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9B6FB-03DF-4E65-8CD4-69C7F7AC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76C76-7274-4F43-A7B5-AB6BA5B0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0DBD6-77D2-4AF5-AC16-D3F665C7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55BB9-C88A-41CC-9F85-6B43EB41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82FFF-E45D-4972-A3FC-E3AC910D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B2394-0E23-4BCE-8088-450B0128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D47EF-1125-45AA-B2CA-20264451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71FDE-4B8F-4C06-AD36-E01EA007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106F3-E02B-4E41-B10D-E00E6EE6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C268A-CC4F-4469-A403-122FABAB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CD69-9BC8-4954-AD19-4504D782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335C5-422A-4BD5-A6A8-6041F340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9245D-237B-4001-BB53-FD7FF64B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8AF74-DCB1-498C-8ED0-C1F8E510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3F92D-A95D-492F-BA0C-C3321DBA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086A6-1808-4E34-AA2F-CA5FF647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6A321-BCE9-4118-8496-DA6C2DA2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BEDE0-99AF-4FFE-A3CC-D5F89018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5DF72-B900-4B61-90A9-BC9CD2ED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121C0-5EF1-4282-81A1-8A2947E7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72164-83D9-44E9-9D8E-9AD677FF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36E1-6D7D-45A6-B818-0A20FF4904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526D-E809-4EBA-8027-3C59BCD48C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9F08-50A0-40BD-9663-708FC10CCA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CBD9-72B2-4106-B1BD-E9BABCCEF7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605A-A616-4831-8230-EB8C12A185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6968-284D-4E53-9401-40240B2590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31BF-C89D-4FC2-B8A2-5A7E5E458F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1359-B1B6-4257-B13C-3AF9C070E6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500F-28A0-4004-83DF-05E367FC69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938A-6688-4A41-955A-F231751B8C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AB47-C437-41AF-8866-87FA79BCB8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2913-403B-4D12-9F5D-53EE30C937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Infant of a Diabetic Mother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LGA and SGA bab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Content Placeholder 3" descr="LGA.jpg"/>
          <p:cNvPicPr/>
          <p:nvPr/>
        </p:nvPicPr>
        <p:blipFill>
          <a:blip r:embed="rId1"/>
          <a:stretch/>
        </p:blipFill>
        <p:spPr>
          <a:xfrm>
            <a:off x="685800" y="1600200"/>
            <a:ext cx="3084480" cy="4672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http://newborns.stanford.edu/images/sga1.jpg"/>
          <p:cNvPicPr/>
          <p:nvPr/>
        </p:nvPicPr>
        <p:blipFill>
          <a:blip r:embed="rId2"/>
          <a:stretch/>
        </p:blipFill>
        <p:spPr>
          <a:xfrm>
            <a:off x="4114800" y="2438280"/>
            <a:ext cx="45910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glycemia: glucose &lt;40 mg/dl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27% of IDMs have hypoglycemia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occurs in first few hours of lif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econdary to persistent hyperinsulinemia while transplacental glucose supply has stopped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/S: lethargy, hypotonia, tremors, seizures, diaphoresis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calcemia: Ca &lt;7 mg/dl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occurs in first 24-72 hours of lif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due to low PTH in infant, which may be related to high maternal Ca during pregnancy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/S: asymptomatic with self resolution or jitteriness, tachypnea, seizures/tetany, lethargy, apnea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omagnesemia: Mg &lt;1.5 mg/dl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40% of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from increased renal losses in diabetic mom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transient and asymptomat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ay need to treat if also hypocalcem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Respiratory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espiratory Distress Syndrome (RDS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more frequently in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Hyperinsulinemia causes delayed maturation of surfactant synthesi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Diabetic moms are more likely to go into premature labor and delivery, which puts infants at an even greater risk of having immature lungs at birth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D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Content Placeholder 3" descr="RDS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0844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espirato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052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ransient Tachypnea of the Newborn (TTN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Occurs more frequently in IDMs because of risk factors associated with having diabetes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matur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crosom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rth asphyxi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lycythem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reased likelihood of c-se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Caused by delayed resorption of fetal lung fluid, mild pulmonary immaturity, and mild surfactant deficiency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Usually resolves by 72 hours of life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TTN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3" name="Content Placeholder 5" descr="TTN.jpg"/>
          <p:cNvPicPr/>
          <p:nvPr/>
        </p:nvPicPr>
        <p:blipFill>
          <a:blip r:embed="rId1"/>
          <a:stretch/>
        </p:blipFill>
        <p:spPr>
          <a:xfrm>
            <a:off x="2438280" y="1828800"/>
            <a:ext cx="42703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ertrophic cardiomyopath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ost infants are asymptomatic, but 5-10% have respiratory distress, other signs of poor cardiac output, or heart failur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Usually resolves by 6 months of ag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Thought to be caused by hyperinsulinemia, which increases fat and glycogen deposition into myocardial cells, causes thickening of interventricular septum &amp;/or ventricular wall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ypertrophic Cardiomyopath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7" name="Content Placeholder 3" descr="HC.gif"/>
          <p:cNvPicPr/>
          <p:nvPr/>
        </p:nvPicPr>
        <p:blipFill>
          <a:blip r:embed="rId1"/>
          <a:stretch/>
        </p:blipFill>
        <p:spPr>
          <a:xfrm>
            <a:off x="2286000" y="1523880"/>
            <a:ext cx="46134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Introduction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Frequency: 3-10% of pregnant women have diabet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88% have gestational diabet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12% have known diabet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5% with Type I diabe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65% with Type II diabe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Cardiac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Poor diabetic control in the 1</a:t>
            </a:r>
            <a:r>
              <a:rPr b="0" lang="en-US" sz="2800" spc="-1" strike="noStrike" baseline="30000">
                <a:solidFill>
                  <a:srgbClr val="646b86"/>
                </a:solidFill>
                <a:latin typeface="Georgia"/>
              </a:rPr>
              <a:t>st</a:t>
            </a: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 trimester is associated with an increased risk of congenital malformation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2/3 of congenital anomalies are cardiovascular or CNS related.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Common cardiac anomalies: Transposition of the great arteries, ASD, VSD, aortic coarctation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ardiac Anomal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1" name="Content Placeholder 3" descr="VSD.jpg"/>
          <p:cNvPicPr/>
          <p:nvPr/>
        </p:nvPicPr>
        <p:blipFill>
          <a:blip r:embed="rId1"/>
          <a:stretch/>
        </p:blipFill>
        <p:spPr>
          <a:xfrm>
            <a:off x="457200" y="1752480"/>
            <a:ext cx="4286160" cy="3429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" descr="http://scienceblogs.com/whitecoatunderground/upload/2009/08/transp/transposition.jpg"/>
          <p:cNvPicPr/>
          <p:nvPr/>
        </p:nvPicPr>
        <p:blipFill>
          <a:blip r:embed="rId2"/>
          <a:stretch/>
        </p:blipFill>
        <p:spPr>
          <a:xfrm>
            <a:off x="5257800" y="1523880"/>
            <a:ext cx="3352680" cy="3924360"/>
          </a:xfrm>
          <a:prstGeom prst="rect">
            <a:avLst/>
          </a:prstGeom>
          <a:ln w="0">
            <a:noFill/>
          </a:ln>
        </p:spPr>
      </p:pic>
      <p:sp>
        <p:nvSpPr>
          <p:cNvPr id="653" name="TextBox 5"/>
          <p:cNvSpPr/>
          <p:nvPr/>
        </p:nvSpPr>
        <p:spPr>
          <a:xfrm>
            <a:off x="5410080" y="57150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sition of the great 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Neur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CNS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25600" indent="-26172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Anencephaly and spina bifida occur 12-20x more frequently in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25600" indent="-26172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Caudal Regression Syndrome: incomplete development of the lumbar and sacral vertebrae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ccurs 200x more frequently in IDM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pectrum of structural defects possibl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789120" indent="-219240">
              <a:lnSpc>
                <a:spcPct val="90000"/>
              </a:lnSpc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ssociated with neurologic impairment due to involvement of distal spine (i.e. incontinence, decreased growth and movement of legs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Anencephaly and Caudal Regression Syndrome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7" name="Content Placeholder 3" descr="Anencephaly.jpg"/>
          <p:cNvPicPr/>
          <p:nvPr/>
        </p:nvPicPr>
        <p:blipFill>
          <a:blip r:embed="rId1"/>
          <a:stretch/>
        </p:blipFill>
        <p:spPr>
          <a:xfrm>
            <a:off x="533520" y="16002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We Care: Caudal Regression Syndrome"/>
          <p:cNvPicPr/>
          <p:nvPr/>
        </p:nvPicPr>
        <p:blipFill>
          <a:blip r:embed="rId2"/>
          <a:stretch/>
        </p:blipFill>
        <p:spPr>
          <a:xfrm>
            <a:off x="4773600" y="1676520"/>
            <a:ext cx="3905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GI and GU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GI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Situs inversus, atresias, small left colon syndrome: presents like Hirschsprung disease, but innervation of the bowel is normal, inability to pass meconium resolves spontaneously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GU anomalie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enal agenesis and other urinary tract abnormalitie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Small Left Colon Syndrome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2" name="Content Placeholder 3" descr="SLCS.jpg"/>
          <p:cNvPicPr/>
          <p:nvPr/>
        </p:nvPicPr>
        <p:blipFill>
          <a:blip r:embed="rId1"/>
          <a:stretch/>
        </p:blipFill>
        <p:spPr>
          <a:xfrm>
            <a:off x="2286000" y="1752480"/>
            <a:ext cx="44402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Hemat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olycythemia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Intervention required when central hematocrit &gt; 65 with symptoms or &gt;70 when asymptomatic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13-33% of IDMs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elated to hypoxia in utero -&gt; stimulates erythropoietin, which increases RBC production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Hyperviscosity in vasculature can cause sludging, ischemia, and infarction of internal organ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Hematolog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yperbilirubinem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Occurs in 11-29% of IDMs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Risk factors include: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matur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rth injury resulting in bruising or cephalohematom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olycythemia causing increased hemolysis  and release of bilirub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Birth Inju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Macrosomia puts infant at risk for injuries during delivery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Shoulder dystocia can lead to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lavicular and/or humeral fractur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55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rachial plexus injuri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Traumatic delivery or need for vacuum/forceps assistance can lead to: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ephalohematoma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cial bruis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cial nerve inju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4" descr="facial-bruising1.jpg"/>
          <p:cNvPicPr/>
          <p:nvPr/>
        </p:nvPicPr>
        <p:blipFill>
          <a:blip r:embed="rId1"/>
          <a:stretch/>
        </p:blipFill>
        <p:spPr>
          <a:xfrm>
            <a:off x="2590920" y="3124080"/>
            <a:ext cx="3743280" cy="281016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Birth Injurie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1" name="Content Placeholder 3" descr="erbs.jpg"/>
          <p:cNvPicPr/>
          <p:nvPr/>
        </p:nvPicPr>
        <p:blipFill>
          <a:blip r:embed="rId2"/>
          <a:stretch/>
        </p:blipFill>
        <p:spPr>
          <a:xfrm>
            <a:off x="380880" y="1447920"/>
            <a:ext cx="2908440" cy="35337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" descr="http://1.bp.blogspot.com/_AJgfsjyCikE/SjMFRLHDGnI/AAAAAAAAAac/VdIw73J4iLc/s200/Cephalohematoma.jpg"/>
          <p:cNvPicPr/>
          <p:nvPr/>
        </p:nvPicPr>
        <p:blipFill>
          <a:blip r:embed="rId3"/>
          <a:stretch/>
        </p:blipFill>
        <p:spPr>
          <a:xfrm>
            <a:off x="6477120" y="1676520"/>
            <a:ext cx="24573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isk of Complication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613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pends on degree of glucose contr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ite’s classification system helps predict perinatal mortal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er risk for complications to the fetus in moms with pre-gestational diabetes than with gestational diabete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i.e. increased risk for congenital anomalies, future obesity, and diabete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igher risk of complications during pregnancy when diabetic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i.e. preeclampsia 2x more common in diabetic pregnancies vs. normal pregnancie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Work-Up and Management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37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blood suga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SGA or LGA, also check hematocri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urther work-up and management depends on patient’s clinical presentation and physical ex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ypoglycemia – early feeding or IVFs with dextr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ymptomatic electrolyte abnormalities – replete electrolyt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spiratory distress – Cardiopulmonary support, CXR/echo to search for cau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yperbilirubinemia – phototherap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lycythemia – IVF hydration or exchange transfus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euro/GI/GU anomalies – imaging studies, specialist consul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rognosi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rbidity and mortality lessen with adequate diabetes control during pregnanc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diabetes is poorly controlled, there is a higher risk of neurodevelopmental defici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isk of CP and epilepsy is increase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risk of childhood obesity, diabetes, and metabolic syndrome is increase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2286000" y="263520"/>
            <a:ext cx="426708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athophysiology of Fetal Effect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6760"/>
            <a:ext cx="85374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ternal hyperglycemia acts like a teratogen -&gt; spontaneous abortions and malform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5" descr="http://www.lucinafoundation.org/assets/spina-bifida.jpg"/>
          <p:cNvPicPr/>
          <p:nvPr/>
        </p:nvPicPr>
        <p:blipFill>
          <a:blip r:embed="rId1"/>
          <a:stretch/>
        </p:blipFill>
        <p:spPr>
          <a:xfrm>
            <a:off x="685800" y="2743200"/>
            <a:ext cx="3621240" cy="3352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http://www.nature.com/jp/journal/v23/n8/images/7210987f2.jpg"/>
          <p:cNvPicPr/>
          <p:nvPr/>
        </p:nvPicPr>
        <p:blipFill>
          <a:blip r:embed="rId2"/>
          <a:stretch/>
        </p:blipFill>
        <p:spPr>
          <a:xfrm>
            <a:off x="4724280" y="2819520"/>
            <a:ext cx="3544920" cy="3282840"/>
          </a:xfrm>
          <a:prstGeom prst="rect">
            <a:avLst/>
          </a:prstGeom>
          <a:ln w="0">
            <a:noFill/>
          </a:ln>
        </p:spPr>
      </p:pic>
      <p:sp>
        <p:nvSpPr>
          <p:cNvPr id="618" name="TextBox 6"/>
          <p:cNvSpPr/>
          <p:nvPr/>
        </p:nvSpPr>
        <p:spPr>
          <a:xfrm>
            <a:off x="510552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us Inver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Pathophysiology of Fetal Effects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6760"/>
            <a:ext cx="8613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mittent maternal hyperglycemia causes fetal hyperglycemia -&gt; premature maturation of fetal pancreatic islet cells -&gt; hyperinsulinemia in the fet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ed insulin -&gt; macrosomia -&gt; increased metabolic rate -&gt; increased O2 consumption -&gt; relative hypoxia in the fetus -&gt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Stimulates erythropoietin -&gt; polycythemia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May be contributing factor to 20-30% stillbirth rate in poorly controlled diabetics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Complications At Delivery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4560" y="17524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remature delive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erinatal asphyx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Birth inju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457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6349"/>
                </a:solidFill>
                <a:latin typeface="Georgia"/>
              </a:rPr>
              <a:t>Neonatal Effects</a:t>
            </a:r>
            <a:br>
              <a:rPr sz="2500"/>
            </a:br>
            <a:br>
              <a:rPr sz="3800"/>
            </a:br>
            <a:r>
              <a:rPr b="0" lang="en-US" sz="3600" spc="-1" strike="noStrike">
                <a:solidFill>
                  <a:srgbClr val="d16349"/>
                </a:solidFill>
                <a:latin typeface="Georgia"/>
              </a:rPr>
              <a:t>Seen in 0.6% to 4% of diabetic pregnancie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Metabolic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6760"/>
            <a:ext cx="8613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IUGR or macrosomia: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oms with poorly controlled diabetes and renal, cardiovascular, retinal disease (class F) are more likely to have a premature and/or IUGR baby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Georgia"/>
              </a:rPr>
              <a:t>Macrosomia is due to the direct effects of hyperinsulinemia 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64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abies are &gt;9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% in weight or &gt;4000g, with excess fat accumulation in abdominal and scapular regions, along with visceromegaly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22:31:36Z</dcterms:created>
  <dc:creator>hcmartinez</dc:creator>
  <dc:description/>
  <dc:language>en-US</dc:language>
  <cp:lastModifiedBy>HCMARTINEZ</cp:lastModifiedBy>
  <dcterms:modified xsi:type="dcterms:W3CDTF">2010-05-08T05:51:40Z</dcterms:modified>
  <cp:revision>43</cp:revision>
  <dc:subject/>
  <dc:title>Infant of a Diabetic Mother</dc:title>
</cp:coreProperties>
</file>