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.wmf" ContentType="image/x-wmf"/>
  <Override PartName="/ppt/media/image23.jpeg" ContentType="image/jpe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BE22-FB09-4EF1-B49A-FF800D42C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2481-D0DF-4F4F-853A-070CBF7FB216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pulmonary vessels should not be seen beyond the middle 1/3 of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05A-F05C-4025-B24C-9F80BEF0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A33-8071-45BB-B86A-8EFAEC4D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60E-A21E-4690-8A54-FA2F2CC6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0A5-63DA-4387-85ED-93E2BA0C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BBE-D6D6-4891-99F0-5C48CDE2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3FE-1A9B-4CA5-ACDC-E2067BCC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C59-13CE-4917-B0D6-C4D7B1DC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128-DB8E-47A1-AA2B-C156C879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779-DC3A-44E8-998A-E888799F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A94-C420-4F14-AE4E-9FB06587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CCB-F3C6-4D03-AD47-BB53B815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0D8-2AFC-406B-9B70-96DED034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6F3-20AC-4999-AC71-950900BD2C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%5Cwebsites%5Cemedicine%5Cemerg%5Cimages%5CLarge%5C431597boot.jpg&amp;template=izoom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 and Early Management of the Infant with Suspected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r9a30ac101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42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cific Heart Disease Abnormalit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De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bsteins Anom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cuspid Atresia with PA or 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ulmonary atresia with intact sept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itical pulmon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PH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igh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respiratory distr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 and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erate to marked hypox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to large sized heart, decreased pulmonary blood flow (PBF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a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5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25296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252960" y="25257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5" descr="Click to see larger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9810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5" descr="ebsteinsdiagram"/>
          <p:cNvPicPr/>
          <p:nvPr/>
        </p:nvPicPr>
        <p:blipFill>
          <a:blip r:embed="rId1"/>
          <a:stretch/>
        </p:blipFill>
        <p:spPr>
          <a:xfrm>
            <a:off x="152280" y="1752480"/>
            <a:ext cx="899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Picture 3" descr="ebsteincxr2sss"/>
          <p:cNvPicPr/>
          <p:nvPr/>
        </p:nvPicPr>
        <p:blipFill>
          <a:blip r:embed="rId1"/>
          <a:stretch/>
        </p:blipFill>
        <p:spPr>
          <a:xfrm>
            <a:off x="2057400" y="175248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ongenital heart disease occurs in 1% of live-born infa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most 1/2 of all cases of congenital heart disease are diagnosed during the 1st week of lif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most frequently occuring anomalies seen during the 1st week are: PDA, D-transposition of the great arteries, hypoplastic left heart syndrome, TOF, and pulmonary atresia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057400" y="1828800"/>
          <a:ext cx="5181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181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KG :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QRS ax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3" descr="EKG axis diagram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914400" y="4495680"/>
            <a:ext cx="731520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ricuspid atresia with PS or PA  with intact ventricular septum: superior  (0— -90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itical PS or PA : 0 to 9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F and TOF with PA:  90-18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-Transposition of the great vess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above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ventric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adequate Mixing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l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marked hypoxemia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, normal or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nsposition of the Great Arter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4053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 - Transposition of the Great Vesse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3" descr="tgadcxr1sss"/>
          <p:cNvPicPr/>
          <p:nvPr/>
        </p:nvPicPr>
        <p:blipFill>
          <a:blip r:embed="rId1"/>
          <a:stretch/>
        </p:blipFill>
        <p:spPr>
          <a:xfrm>
            <a:off x="2133720" y="2043000"/>
            <a:ext cx="51354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3" descr="CXR truncus"/>
          <p:cNvPicPr/>
          <p:nvPr/>
        </p:nvPicPr>
        <p:blipFill>
          <a:blip r:embed="rId1"/>
          <a:stretch/>
        </p:blipFill>
        <p:spPr>
          <a:xfrm>
            <a:off x="1981080" y="1828800"/>
            <a:ext cx="538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sions with Poor Gas Exchan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rke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ir perfusion, 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heart size, pulmonary conges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dications for Fetal Echocardiograph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685800" y="2322360"/>
          <a:ext cx="777240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22360"/>
                    <a:ext cx="777240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arctation of aorta, interrupted aortic ar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ral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below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ey or ashen co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or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creased pulses/differenti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gallo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patomeg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 metabolic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 with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arctation of the Aort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875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3" descr="CXR HLHS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ascriticalcxrsss"/>
          <p:cNvPicPr/>
          <p:nvPr/>
        </p:nvPicPr>
        <p:blipFill>
          <a:blip r:embed="rId1"/>
          <a:stretch/>
        </p:blipFill>
        <p:spPr>
          <a:xfrm>
            <a:off x="2057400" y="182880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0560" cy="457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sdcxrchfsss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nal Risk Factors Associated With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heart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rdiac teratogen expos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Lithium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mphetamin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coho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convulsants: 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phenytoin, valproic acid, carbamazepine, and trimethadion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sotretinoi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al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178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oventricular Cana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tent Duct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51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itial Stabiliz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: Volume resuscitation, ionotorpic support, correction of metabolic acidosis, r/o sep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e if needed, titrate Fi02 to keep Sp02 80%-85% to prevent pulmonary overcirc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cement of umbilical li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ants who present in shock within the first 3 weeks of life, consider ductal dependent le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of PGE1 (0.025 to 0.1mcg/kg/mi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abilization for Trans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iable vascular ac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ion if on PGE1, OG plac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ygen delivery, Sp0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itor HR, tissue perfusion, blood pressure, and acid-base sta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lcium and glucose status (increased risk for DiGeorg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ostaglandin E1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ailure to respond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diagnosis incorrect, older infant with unresponsive ductus, ductus absent, obstructed pulmonary venous retur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nical deterioration after PGE1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obstructed blood flow out of pulmonary veins or left atrium, HLHS with restrictive FO, TGA with intact ventricular septum and restrictive FO, obstructed TAPVR, mitral atresia with restrictive F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GE 1 -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Side Effe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Apnea, fever, leukocytosis, cutaneous flushing, and bradycardia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seizures, hypoventilation, hypotension, tachycardia, cardiac arrest, sepsis, diarrhea, DIC, fe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urticaria, bronchospasm, hemorrhage*, hypoglycemia, and hypocalc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inhibits platelet aggre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ternal Metabolic Disorders or Infe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K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thyroid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upus, collagen vascular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bella, CMV, Coxsackie, Parvovir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500" spc="-1" strike="noStrike">
                <a:solidFill>
                  <a:srgbClr val="ffff00"/>
                </a:solidFill>
                <a:latin typeface="Times New Roman"/>
              </a:rPr>
              <a:t>Fetal Risk Factors Associated With Congenital Heart Disease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somies, Turner’s syndrome, abnormal karyotyp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malformations:  duodenal atresia, TEF, omphalocele, diaphragmatic hernia, renal dysgenesis, and hydrocephal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tal arrhythm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UG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immune hydro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?2 vessel co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tiology: CV, pulmonary, airway obstruction, neurological, neuromuscular, or hematological (methemoglobinemia or polycythemia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nfants can appear cyanotic when the deoxygenated Hgb concentration is at least 3g/dL; it is not related to the percent saturated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2 babies with sats of 80%: one with a hgb of 20g/dL and 4g/dL of desaturated hgb will be cyanotic, but an anemic infant with 10g/dL with 2g/dL deoxygenated hgb will not be cyanotic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: murmur, pulses, precordium, respiratory status, HSM, color, capillary refi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 ext BPs: if SBP &gt;10mmHg in right hand compared to lower ext, concerning for arch anomaly (though if normal may not rule it ou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/post ductal saturations:  if see a difference &gt;5%, concerning for PPHN or left heart abnormal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 (Continued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oxia test: baseline pre-ductal ABG when infant in room air, then repeat on 100% FiO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 for ABG and not just sats: with a saturation of 100%, you can have a PaO2 of 80 or 300; very differ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; normal, increased, or decreased pulmonary vascul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K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ch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59:45Z</dcterms:created>
  <dc:creator>Bradley Bennett</dc:creator>
  <dc:description/>
  <dc:language>en-US</dc:language>
  <cp:lastModifiedBy>Health Services Department</cp:lastModifiedBy>
  <dcterms:modified xsi:type="dcterms:W3CDTF">2010-05-25T00:02:19Z</dcterms:modified>
  <cp:revision>10</cp:revision>
  <dc:subject/>
  <dc:title>Early Management of the Infant with Suspected Congenital Heart Disease</dc:title>
</cp:coreProperties>
</file>