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8BCD-01FD-4546-975D-6C72544F0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DE3-F386-4BB5-824B-75C3DCDA781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pulmonary vessels should not be seen beyond the middle 1/3 of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EE8-1F61-4A3E-ADFE-7C1BA960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3F0-BB83-4F77-BBC8-EE004CE3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1AA-F921-438E-B497-CC5920DF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E30-F6F8-4FBC-83C0-1A4F28ED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EB9-05FC-45B2-8EB1-1A45CE3B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023-9DF9-4711-B15D-624D399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1B3-85B7-4532-BF64-CAD4AC1F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8AA-A074-4B24-BD8A-6A2069F0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7C6-7C3B-4676-8658-CF1C14FF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009-5094-4C69-BDE6-48DFE8C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8DE-C8AB-476A-BA10-C601DDC4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D7C-DFD5-436D-8908-CDFC9705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5FB3-8329-46F2-8065-BAB04476C9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%5Cwebsites%5Cemedicine%5Cemerg%5Cimages%5CLarge%5C431597boot.jpg&amp;template=izoom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 and Early Management of the Infant with Suspected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r9a30ac101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42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cific Heart Disease Abnorma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De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bsteins Anom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cuspid Atresia with PA or 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lmonary atresia with intact sept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itical pulmon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PH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igh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respiratory dist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 and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rate to marked hypox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to large sized heart, decreased pulmonary blood flow (PBF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a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529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52960" y="2525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5" descr="Click to see larg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ebsteinsdiagram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Picture 3" descr="ebsteincxr2sss"/>
          <p:cNvPicPr/>
          <p:nvPr/>
        </p:nvPicPr>
        <p:blipFill>
          <a:blip r:embed="rId1"/>
          <a:stretch/>
        </p:blipFill>
        <p:spPr>
          <a:xfrm>
            <a:off x="2057400" y="175248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ngenital heart disease occurs in 1% of live-born infa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most 1/2 of all cases of congenital heart disease are diagnosed during the 1st week of lif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most frequently occuring anomalies seen during the 1st week are: PDA, D-transposition of the great arteries, hypoplastic left heart syndrome, TOF, and pulmonary atresia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1828800"/>
          <a:ext cx="5181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81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KG :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QRS ax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EKG axis 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4495680"/>
            <a:ext cx="731520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icuspid atresia with PS or PA  with intact ventricular septum: superior  (0— -9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itical PS or PA : 0 to 9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F and TOF with PA:  90-18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-Transposition of the great vess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above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ventric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adequate Mixing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marked hypoxemia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, normal or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nsposition of the Great Arte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 - Transposition of the Great Vesse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3" descr="tgadcxr1sss"/>
          <p:cNvPicPr/>
          <p:nvPr/>
        </p:nvPicPr>
        <p:blipFill>
          <a:blip r:embed="rId1"/>
          <a:stretch/>
        </p:blipFill>
        <p:spPr>
          <a:xfrm>
            <a:off x="2133720" y="2043000"/>
            <a:ext cx="51354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3" descr="CXR truncus"/>
          <p:cNvPicPr/>
          <p:nvPr/>
        </p:nvPicPr>
        <p:blipFill>
          <a:blip r:embed="rId1"/>
          <a:stretch/>
        </p:blipFill>
        <p:spPr>
          <a:xfrm>
            <a:off x="1981080" y="1828800"/>
            <a:ext cx="538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sions with Poor Gas Exchan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ke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ir perfusion, 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heart size, pulmonary conges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dications for Fetal Echocardiograph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5800" y="2322360"/>
          <a:ext cx="77724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22360"/>
                    <a:ext cx="77724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arctation of aorta, interrupted aortic ar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ral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below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ey or ashen co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reased pulses/differenti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al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patomeg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 metabolic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 with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arctation of the Aort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CXR HLHS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ascriticalcxrsss"/>
          <p:cNvPicPr/>
          <p:nvPr/>
        </p:nvPicPr>
        <p:blipFill>
          <a:blip r:embed="rId1"/>
          <a:stretch/>
        </p:blipFill>
        <p:spPr>
          <a:xfrm>
            <a:off x="2057400" y="182880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056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sdcxrchfsss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nal Risk Factors Associated With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diac teratogen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Lithium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mphetamin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coho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convulsants: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phenytoin, valproic acid, carbamazepine, and trimethadion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sotretinoi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al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78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oventricular Cana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ent Duct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51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itial Stabiliz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: Volume resuscitation, ionotorpic support, correction of metabolic acidosis, r/o sep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e if needed, titrate Fi02 to keep Sp02 80%-85% to prevent pulmonary overcirc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cement of umbilical li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nts who present in shock within the first 3 weeks of life, consider ductal dependent le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of PGE1 (0.025 to 0.1mcg/kg/m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bilization for Trans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iable vascular ac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ion if on PGE1, OG plac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ygen delivery, Sp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 HR, tissue perfusion, blood pressure, and acid-base sta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lcium and glucose status (increased risk for DiGeor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staglandin E1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ilure to respon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diagnosis incorrect, older infant with unresponsive ductus, ductus absent, obstructed pulmonary venous retu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deterioration after PGE1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obstructed blood flow out of pulmonary veins or left atrium, HLHS with restrictive FO, TGA with intact ventricular septum and restrictive FO, obstructed TAPVR, mitral atresia with restrictive F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GE 1 -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Side Effe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Apnea, fever, leukocytosis, cutaneous flushing, and bradycardi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izures, hypoventilation, hypotension, tachycardia, cardiac arrest, sepsis, diarrhea, DIC, fe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urticaria, bronchospasm, hemorrhage*, hypoglycemia, and hypocalc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inhibits platelet aggre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ternal Metabolic Disorders or Infe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thyroid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upus, collagen vascular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bella, CMV, Coxsackie, Parvovir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Fetal Risk Factors Associated With Congenital Heart Disease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somies, Turner’s syndrome, abnormal karyoty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malformations:  duodenal atresia, TEF, omphalocele, diaphragmatic hernia, renal dysgenesis, and hydrocephal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tal arrhythm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UG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immune hydro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2 vessel c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tiology: CV, pulmonary, airway obstruction, neurological, neuromuscular, or hematological (methemoglobinemia or polycythemi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fants can appear cyanotic when the deoxygenated Hgb concentration is at least 3g/dL; it is not related to the percent saturated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babies with sats of 80%: one with a hgb of 20g/dL and 4g/dL of desaturated hgb will be cyanotic, but an anemic infant with 10g/dL with 2g/dL deoxygenated hgb will not be cyanotic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: murmur, pulses, precordium, respiratory status, HSM, color, capillary ref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ext BPs: if SBP &gt;10mmHg in right hand compared to lower ext, concerning for arch anomaly (though if normal may not rule it ou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/post ductal saturations:  if see a difference &gt;5%, concerning for PPHN or left heart abnorma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 (Continued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oxia test: baseline pre-ductal ABG when infant in room air, then repeat on 100% FiO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 for ABG and not just sats: with a saturation of 100%, you can have a PaO2 of 80 or 300; very differ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; normal, increased, or decreased pulmonary vascul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ch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59:45Z</dcterms:created>
  <dc:creator>Bradley Bennett</dc:creator>
  <dc:description/>
  <dc:language>en-US</dc:language>
  <cp:lastModifiedBy>Health Services Department</cp:lastModifiedBy>
  <dcterms:modified xsi:type="dcterms:W3CDTF">2010-05-25T00:02:19Z</dcterms:modified>
  <cp:revision>10</cp:revision>
  <dc:subject/>
  <dc:title>Early Management of the Infant with Suspected Congenital Heart Disease</dc:title>
</cp:coreProperties>
</file>